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0E1-EAFC-4ABC-8CDC-770731DC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892-6156-4BC6-B6DD-B2322A0F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394-FE26-4B6B-A175-4BE2A293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B47-F3B5-41C3-8044-8D7E79A8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9221-E608-4237-8617-A2FA6C94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22B-B78B-4F2B-8800-21561A70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E7B-B67C-447D-BF41-ACA7620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745-9C27-462D-9FA6-68E3394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CD8-7859-4BDD-ABD6-6BC97F41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4E5-5098-4358-99A0-EB0FA8D2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0008-5439-4A62-87AE-CB6DBAC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131-DC16-463E-B947-9D6F767A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FD00-375A-42BF-84AE-667306AB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3A96-1B80-4549-B5D5-5DDA501D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E117-30F5-4B97-8D7D-1EA054AE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B4D9-FF1A-4954-950E-13DC2353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C82-3151-4E7E-ABA3-19E4ADCF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0FBA-704C-4D42-A4D4-C5DBD762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3ACA-EAA9-45AC-A711-02CA458B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07A2-18CE-4DA3-835E-DCD957BB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2E51-58E3-45D3-95BF-EC89AD7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F734-11B0-45E6-9688-77377665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9CA-AFD2-4DED-AD60-F209BB4A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EF70-9569-4669-849A-3F36449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AE1F-67C8-4895-B405-5855BDF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435A-BB75-45C1-A70F-9C4E9BE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9127-1ACB-4385-8086-D62C9DF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7D86-FE98-47C8-8A5F-AF9E4B9A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6897-A67A-4BA1-8294-F940E60A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6EA6-8624-43F4-9C6A-C133AFA4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B4EA-5DC0-4E35-AB8C-3D0F5A6C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39AA-3294-4949-B1D0-4F3F4EDC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EF8B-D909-47AF-A6A2-6B9E0191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BDF-D7BE-438C-B5B5-45E3DC71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3528-67F4-42E7-A129-DDAF0C54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147D-E067-4029-B2BA-C815866F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6987-9E49-4D9D-A9F0-8B99A0B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9ACCF-30FB-4A76-8032-70141BA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0D21-698C-4DA2-814F-524ECD7B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56CD-68DB-4383-AD1B-E7732B3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A7C00-D101-4828-9579-75F6EF6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24E1-AEA6-4D4A-A26A-DEE241FB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3B15-55D3-4F37-AF02-E5F2A73A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19B6-BF75-48BB-ABDC-1F1A7D1F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018-5BB2-44B1-A0BC-9FF83526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72A9-8292-4D7E-83B3-483FBF1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E7FA-0D4E-41A6-9410-C4EEE57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6BF4-D81B-408D-AD2B-611FAC36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B4265-97A4-460C-8F19-AFA25C89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F4D2-6D87-4F45-9540-30D54730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23DC-9966-45C9-9357-11A9B16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C9C89-75D3-4487-BA32-E003237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6682-1B6E-4AB7-94A5-3AD870E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34C0A-D444-48BA-8928-575EF73E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D792-D9BE-4B2D-825A-9380C79D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4F2-63B3-4D19-8534-ECDC42D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9BA1-8B4C-4572-BC68-D7833618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DEDA-D7D9-407E-9AAB-ED24B62B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DE4A-F507-4220-A426-B0CD0D34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AE06F-B83D-491F-A8E7-158E435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BDC4-A39F-42B3-A778-138F464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6882-7802-4DE5-B965-4B19C7E3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018A-0EC5-4D9E-9CF9-A3AA5031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6C61-5746-47A6-BE82-2A9BD89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5126-099B-48FD-9857-835A71B7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B44B-CFC4-4852-AE6E-3625269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6BE-B18A-40F6-8F25-AE462A6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E595-24FE-42C0-A2DB-37D35EF2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8EBD-63A3-47FF-8514-62C7D126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F3529-1CB2-480E-BD81-2E4F9819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A6369-09FA-4242-9C28-17558AB4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8682-CF79-4A7B-AC7F-B7514B72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2FDD-938B-4E43-941B-1A4E810B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B34A5-FCF0-4D67-8778-978BAB7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625F-4FED-4997-92A8-92E4312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4268-8AD7-44DF-B306-8726410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902BC-79E2-4DE5-8E1D-8C2CBBD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E8F-6169-4D0C-97E7-5AC7A2B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55E1-5163-4638-BC04-EA7FC73B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A6837-299F-4B8B-8EF8-6B8F3A4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6C17-EDC2-42AB-92E0-7B82D20D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2929C-887E-4D0F-AB93-C51D59AD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2348E-D86B-4F93-8CBE-39522FBF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108-20B8-46C2-AA42-C930146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07B4-1EBE-4D16-9F10-6186C7C54B7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BF94-7C01-40BE-9841-62F228C427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CD92-F5F3-4E5A-9D4B-8AB36F65939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0933-EFAF-422C-AE42-36F03BB189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EB33-53E6-4A86-803B-811D0062BF23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715F-ACB6-41D1-BFC9-D714C9BD839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8108-A523-4389-94FB-77FF95E6E6EE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BA8-547C-41E2-AE99-AB1DFEDB0F7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C81B-C741-4BB7-B443-7013CB00AB6B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CF9-922A-46C3-9305-A682864934D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6E39-181F-44DF-85E0-43C486A537AB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7F40-E5E1-43D7-96D3-28F48FD9754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9F6A-D9B5-4920-96AD-93D9512B093B}" type="datetime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58B-5A47-462B-9E0A-24BF3CF3D51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5;&#1072;&#1085;&#1080;&#1095;&#1077;&#1089;&#1082;&#1080;&#1077;_&#1074;&#1077;&#1097;&#1077;&#1089;&#1090;&#1074;&#1072;" TargetMode="External"/><Relationship Id="rId2" Type="http://schemas.openxmlformats.org/officeDocument/2006/relationships/hyperlink" Target="http://ru.wikipedia.org/wiki/&#1059;&#1075;&#1083;&#1077;&#1088;&#1086;&#1076;" TargetMode="External"/><Relationship Id="rId3" Type="http://schemas.openxmlformats.org/officeDocument/2006/relationships/hyperlink" Target="http://ru.wikipedia.org/wiki/&#1050;&#1072;&#1088;&#1073;&#1086;&#1094;&#1080;&#1082;&#1083;&#1080;&#1095;&#1077;&#1089;&#1082;&#1080;&#1077;_&#1089;&#1086;&#1077;&#1076;&#1080;&#1085;&#1077;&#1085;&#1080;&#1103;" TargetMode="External"/><Relationship Id="rId4" Type="http://schemas.openxmlformats.org/officeDocument/2006/relationships/hyperlink" Target="http://ru.wikipedia.org/wiki/&#1043;&#1077;&#1090;&#1077;&#1088;&#1086;&#1072;&#1090;&#1086;&#1084;" TargetMode="External"/><Relationship Id="rId5" Type="http://schemas.openxmlformats.org/officeDocument/2006/relationships/hyperlink" Target="http://ru.wikipedia.org/w/index.php?title=&#1055;&#1077;&#1085;&#1090;&#1072;&#1079;&#1086;&#1083;&amp;action=edit&amp;redlink=1" TargetMode="External"/><Relationship Id="rId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9;&#1083;&#1077;&#1082;&#1090;&#1088;&#1086;&#1092;&#1080;&#1083;&#1100;&#1085;&#1086;&#1089;&#1090;&#1100;&amp;action=edit&amp;redlink=1" TargetMode="External"/><Relationship Id="rId2" Type="http://schemas.openxmlformats.org/officeDocument/2006/relationships/hyperlink" Target="http://ru.wikipedia.org/wiki/&#1055;&#1080;&#1088;&#1088;&#1086;&#1083;" TargetMode="External"/><Relationship Id="rId3" Type="http://schemas.openxmlformats.org/officeDocument/2006/relationships/hyperlink" Target="http://ru.wikipedia.org/wiki/&#1055;&#1080;&#1088;&#1080;&#1076;&#1080;&#1085;" TargetMode="External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80;&#1074;&#1080;&#1072;&#1083;&#1100;&#1085;&#1086;&#1077;_&#1085;&#1072;&#1079;&#1074;&#1072;&#1085;&#1080;&#1077;" TargetMode="External"/><Relationship Id="rId2" Type="http://schemas.openxmlformats.org/officeDocument/2006/relationships/hyperlink" Target="http://ru.wikipedia.org/w/index.php?title=&#1043;&#1072;&#1085;&#1095;,_&#1040;&#1088;&#1090;&#1091;&#1088;_&#1056;&#1091;&#1076;&#1086;&#1083;&#1100;&#1092;&amp;action=edit&amp;redlink=1" TargetMode="External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3;&#1083;&#1102;&#1083;&#1086;&#1079;&#1072;" TargetMode="External"/><Relationship Id="rId2" Type="http://schemas.openxmlformats.org/officeDocument/2006/relationships/hyperlink" Target="http://ru.wikipedia.org/wiki/&#1055;&#1086;&#1083;&#1080;&#1089;&#1072;&#1093;&#1072;&#1088;&#1080;&#1076;&#1099;" TargetMode="External"/><Relationship Id="rId3" Type="http://schemas.openxmlformats.org/officeDocument/2006/relationships/hyperlink" Target="http://ru.wikipedia.org/wiki/&#1050;&#1086;&#1092;&#1077;&#1088;&#1084;&#1077;&#1085;&#1090;&#1099;" TargetMode="External"/><Relationship Id="rId4" Type="http://schemas.openxmlformats.org/officeDocument/2006/relationships/hyperlink" Target="http://ru.wikipedia.org/wiki/&#1040;&#1083;&#1082;&#1072;&#1083;&#1086;&#1080;&#1076;&#1099;" TargetMode="External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4;&#1077;&#1085;&#1085;&#1086;&#1091;&#1075;&#1086;&#1083;&#1100;&#1085;&#1072;&#1103;_&#1089;&#1084;&#1086;&#1083;&#1072;" TargetMode="External"/><Relationship Id="rId2" Type="http://schemas.openxmlformats.org/officeDocument/2006/relationships/hyperlink" Target="http://ru.wikipedia.org/wiki/&#1055;&#1080;&#1088;&#1080;&#1076;&#1080;&#1085;" TargetMode="External"/><Relationship Id="rId3" Type="http://schemas.openxmlformats.org/officeDocument/2006/relationships/hyperlink" Target="http://ru.wikipedia.org/wiki/&#1061;&#1080;&#1085;&#1086;&#1083;&#1080;&#1085;" TargetMode="External"/><Relationship Id="rId4" Type="http://schemas.openxmlformats.org/officeDocument/2006/relationships/hyperlink" Target="http://ru.wikipedia.org/wiki/&#1040;&#1082;&#1088;&#1080;&#1076;&#1080;&#1085;" TargetMode="External"/><Relationship Id="rId5" Type="http://schemas.openxmlformats.org/officeDocument/2006/relationships/hyperlink" Target="http://ru.wikipedia.org/wiki/&#1060;&#1091;&#1088;&#1092;&#1091;&#1088;&#1086;&#1083;" TargetMode="External"/><Relationship Id="rId6" Type="http://schemas.openxmlformats.org/officeDocument/2006/relationships/hyperlink" Target="http://ru.wikipedia.org/wiki/&#1050;&#1088;&#1072;&#1089;&#1080;&#1090;&#1077;&#1083;&#1080;" TargetMode="External"/><Relationship Id="rId7" Type="http://schemas.openxmlformats.org/officeDocument/2006/relationships/hyperlink" Target="http://ru.wikipedia.org/wiki/&#1048;&#1085;&#1076;&#1080;&#1075;&#1086;" TargetMode="External"/><Relationship Id="rId8" Type="http://schemas.openxmlformats.org/officeDocument/2006/relationships/hyperlink" Target="http://ru.wikipedia.org/wiki/&#1061;&#1080;&#1085;&#1080;&#1085;" TargetMode="External"/><Relationship Id="rId9" Type="http://schemas.openxmlformats.org/officeDocument/2006/relationships/hyperlink" Target="http://ru.wikipedia.org/wiki/&#1052;&#1086;&#1088;&#1092;&#1080;&#1085;" TargetMode="External"/><Relationship Id="rId10" Type="http://schemas.openxmlformats.org/officeDocument/2006/relationships/hyperlink" Target="http://ru.wikipedia.org/wiki/&#1052;&#1077;&#1087;&#1072;&#1082;&#1088;&#1080;&#1085;" TargetMode="External"/><Relationship Id="rId11" Type="http://schemas.openxmlformats.org/officeDocument/2006/relationships/hyperlink" Target="http://ru.wikipedia.org/wiki/&#1055;&#1080;&#1088;&#1072;&#1084;&#1080;&#1076;&#1086;&#1085;" TargetMode="External"/><Relationship Id="rId12" Type="http://schemas.openxmlformats.org/officeDocument/2006/relationships/hyperlink" Target="http://ru.wikipedia.org/wiki/&#1055;&#1083;&#1072;&#1089;&#1090;&#1084;&#1072;&#1089;&#1089;&#1099;" TargetMode="External"/><Relationship Id="rId13" Type="http://schemas.openxmlformats.org/officeDocument/2006/relationships/hyperlink" Target="http://ru.wikipedia.org/wiki/&#1042;&#1091;&#1083;&#1082;&#1072;&#1085;&#1080;&#1079;&#1072;&#1094;&#1080;&#1103;" TargetMode="External"/><Relationship Id="rId14" Type="http://schemas.openxmlformats.org/officeDocument/2006/relationships/hyperlink" Target="http://ru.wikipedia.org/wiki/&#1050;&#1072;&#1091;&#1095;&#1091;&#1082;" TargetMode="External"/><Relationship Id="rId1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25640" y="2130480"/>
            <a:ext cx="765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тероцикл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тероциклические пуриновые и пиримидиновы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9F77-BE4E-43E6-951E-D421559617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n320"/>
          <p:cNvPicPr/>
          <p:nvPr/>
        </p:nvPicPr>
        <p:blipFill>
          <a:blip r:embed="rId1"/>
          <a:srcRect l="0" t="0" r="0" b="13008"/>
          <a:stretch/>
        </p:blipFill>
        <p:spPr>
          <a:xfrm>
            <a:off x="324000" y="1292400"/>
            <a:ext cx="8424720" cy="37922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7"/>
          <p:cNvSpPr/>
          <p:nvPr/>
        </p:nvSpPr>
        <p:spPr>
          <a:xfrm>
            <a:off x="250920" y="5608800"/>
            <a:ext cx="8496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рол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Н – пятичленный гетероцикл с одним атомом аз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цветная жидкость с температурой кипения 13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, плохо растворимая в воде, на воздухе быстро окисляется и темне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3995640" y="404640"/>
            <a:ext cx="1743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р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0" name="AutoShape 9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4371-5DA3-47D2-B322-A7D6103F9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n322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20890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324000" y="3429000"/>
            <a:ext cx="756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ое строение молекулы пиррола объясняет его свойства как слабой кислоты и ароматического 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омы углерода и азота находятся в состояни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гибридизации.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 C–C, C–H и C–N образованы гибридными орбиталями. Цикл имеет плоское строение. На негибридной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рбитали азота находится неподеленная пара электронов, которые вступают в сопряжение с четырьмя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электронами атомов угле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циклической системе сопряжения находится 6 электронов, что определяет ароматические свойства пирр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5" descr="n323_1"/>
          <p:cNvPicPr/>
          <p:nvPr/>
        </p:nvPicPr>
        <p:blipFill>
          <a:blip r:embed="rId2"/>
          <a:stretch/>
        </p:blipFill>
        <p:spPr>
          <a:xfrm>
            <a:off x="7667640" y="3573360"/>
            <a:ext cx="1285920" cy="15130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6"/>
          <p:cNvSpPr/>
          <p:nvPr/>
        </p:nvSpPr>
        <p:spPr>
          <a:xfrm>
            <a:off x="8317080" y="5950080"/>
            <a:ext cx="826920" cy="907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07920"/>
              <a:gd name="textAreaBottom" fmla="*/ 854640 h 907920"/>
            </a:gdLst>
            <a:ahLst/>
            <a:rect l="textAreaLeft" t="textAreaTop" r="textAreaRight" b="textAreaBottom"/>
            <a:pathLst>
              <a:path w="21600" h="23715">
                <a:moveTo>
                  <a:pt x="0" y="0"/>
                </a:moveTo>
                <a:lnTo>
                  <a:pt x="21600" y="0"/>
                </a:lnTo>
                <a:lnTo>
                  <a:pt x="21600" y="23715"/>
                </a:lnTo>
                <a:lnTo>
                  <a:pt x="0" y="23715"/>
                </a:lnTo>
                <a:close/>
              </a:path>
              <a:path fill="lightenLess" w="21600" h="23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15">
                <a:moveTo>
                  <a:pt x="21600" y="0"/>
                </a:moveTo>
                <a:lnTo>
                  <a:pt x="21600" y="23715"/>
                </a:lnTo>
                <a:lnTo>
                  <a:pt x="20200" y="22315"/>
                </a:lnTo>
                <a:lnTo>
                  <a:pt x="20200" y="1400"/>
                </a:lnTo>
                <a:close/>
              </a:path>
              <a:path fill="darkenLess" w="21600" h="23715">
                <a:moveTo>
                  <a:pt x="21600" y="23715"/>
                </a:moveTo>
                <a:lnTo>
                  <a:pt x="0" y="23715"/>
                </a:lnTo>
                <a:lnTo>
                  <a:pt x="1400" y="22315"/>
                </a:lnTo>
                <a:lnTo>
                  <a:pt x="20200" y="22315"/>
                </a:lnTo>
                <a:close/>
              </a:path>
              <a:path fill="lighten" w="21600" h="23715">
                <a:moveTo>
                  <a:pt x="0" y="23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15"/>
                </a:lnTo>
                <a:close/>
              </a:path>
              <a:path fill="darkenLess" w="21600" h="23715">
                <a:moveTo>
                  <a:pt x="5273" y="5042"/>
                </a:moveTo>
                <a:lnTo>
                  <a:pt x="12271" y="5042"/>
                </a:lnTo>
                <a:lnTo>
                  <a:pt x="16327" y="8541"/>
                </a:lnTo>
                <a:lnTo>
                  <a:pt x="16327" y="18672"/>
                </a:lnTo>
                <a:lnTo>
                  <a:pt x="5273" y="18672"/>
                </a:lnTo>
                <a:close/>
              </a:path>
              <a:path fill="darken" w="21600" h="23715">
                <a:moveTo>
                  <a:pt x="12271" y="5042"/>
                </a:moveTo>
                <a:lnTo>
                  <a:pt x="16327" y="8541"/>
                </a:lnTo>
                <a:lnTo>
                  <a:pt x="12271" y="8541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3BF6-831E-4E2B-B743-72F29C31AB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611280" y="18900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ывание неподеленной электронной пары атома азота системой сопряжения приводит к резкому ослаблению основных и проявлению кислотных свойств. Как слабая кислота пиррол вступает в реакцию с металлическим калием, образуя соль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ррол-кал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4" descr="n324"/>
          <p:cNvPicPr/>
          <p:nvPr/>
        </p:nvPicPr>
        <p:blipFill>
          <a:blip r:embed="rId1"/>
          <a:stretch/>
        </p:blipFill>
        <p:spPr>
          <a:xfrm>
            <a:off x="250920" y="3232080"/>
            <a:ext cx="8713800" cy="30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D921A-AA77-48C5-8F55-AB7DBFBC6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n325"/>
          <p:cNvPicPr/>
          <p:nvPr/>
        </p:nvPicPr>
        <p:blipFill>
          <a:blip r:embed="rId1"/>
          <a:stretch/>
        </p:blipFill>
        <p:spPr>
          <a:xfrm>
            <a:off x="755640" y="2133720"/>
            <a:ext cx="7993080" cy="36208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324000" y="189000"/>
            <a:ext cx="864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рол может участвовать в реакциях присоедин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гидрирование приводит к образовани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ирролид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под действием сильных минеральных кислот пиррол вступает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кции полимер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EFE8-012D-4B02-925A-9DD4A55637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n323"/>
          <p:cNvPicPr/>
          <p:nvPr/>
        </p:nvPicPr>
        <p:blipFill>
          <a:blip r:embed="rId1"/>
          <a:stretch/>
        </p:blipFill>
        <p:spPr>
          <a:xfrm>
            <a:off x="324000" y="2421000"/>
            <a:ext cx="8497800" cy="36576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324000" y="366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рол значительно активнее бензола в реакциях электрофи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щения, т.к. атом азота, предоставляя в систему сопряжения д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а (+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ффект), повышает электронную плотность в цик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- замещение 4-х атомов водорода при иодиров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C995-9587-420F-B497-4C0159E08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n321"/>
          <p:cNvPicPr/>
          <p:nvPr/>
        </p:nvPicPr>
        <p:blipFill>
          <a:blip r:embed="rId1"/>
          <a:stretch/>
        </p:blipFill>
        <p:spPr>
          <a:xfrm>
            <a:off x="2050920" y="189000"/>
            <a:ext cx="5210280" cy="482436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395280" y="5373720"/>
            <a:ext cx="849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рольные структуры содержатся в гемоглобине, хлорофилл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е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которых других природных соединени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став молекул этих сложных веществ входит тетрапирро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гмен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ф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в виде комплекса с металл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947C6-8E39-4057-8FB3-A4149EC10E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n341"/>
          <p:cNvPicPr/>
          <p:nvPr/>
        </p:nvPicPr>
        <p:blipFill>
          <a:blip r:embed="rId1"/>
          <a:srcRect l="74685" t="0" r="0" b="14444"/>
          <a:stretch/>
        </p:blipFill>
        <p:spPr>
          <a:xfrm>
            <a:off x="4572000" y="1521000"/>
            <a:ext cx="4032360" cy="349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n342"/>
          <p:cNvPicPr/>
          <p:nvPr/>
        </p:nvPicPr>
        <p:blipFill>
          <a:blip r:embed="rId2"/>
          <a:srcRect l="25211" t="0" r="50443" b="14416"/>
          <a:stretch/>
        </p:blipFill>
        <p:spPr>
          <a:xfrm>
            <a:off x="539640" y="155736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4"/>
          <p:cNvSpPr/>
          <p:nvPr/>
        </p:nvSpPr>
        <p:spPr>
          <a:xfrm>
            <a:off x="250920" y="514512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имидин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шестичленный гетероцикл с двумя атомами азот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ы, находящиеся на негибридны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орбиталях, образую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лектронную ароматическую систе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яет свойства очень слабого основания, т.к. атомы азота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ибридизованном состоянии довольно прочно удерживают неподеленную электронную па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3247920" y="404640"/>
            <a:ext cx="2648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ими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B46C-2473-4F72-B241-C11E46D294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611280" y="4437000"/>
            <a:ext cx="8064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рин 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соединение, в молекуле которого сочетаются структуры шести- и пятичленного гетероциклов, содержащих по два атома аз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являет амфотерные свойства. Слабые основные свойства связаны с атомами азота шестичленного (пиримидинового) цикла. Слабые кислотные свойства обусловле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уппой N-H пятичленного цикла (по аналогии с пирроло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1979640" y="620640"/>
            <a:ext cx="1428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р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10" name="Picture 6" descr="4"/>
          <p:cNvPicPr/>
          <p:nvPr/>
        </p:nvPicPr>
        <p:blipFill>
          <a:blip r:embed="rId1">
            <a:lum bright="-12000"/>
          </a:blip>
          <a:srcRect l="53548" t="0" r="29132" b="56505"/>
          <a:stretch/>
        </p:blipFill>
        <p:spPr>
          <a:xfrm>
            <a:off x="5440320" y="189000"/>
            <a:ext cx="3113280" cy="39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45BA-BEC7-4F72-8D09-423E9B1963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468360" y="1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римидин и пурин являются основой пиримидиновых и пуриновых оснований, входящих в состав природных высокомолекулярных веществ – нуклеиновых кисло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5" descr="4"/>
          <p:cNvPicPr/>
          <p:nvPr/>
        </p:nvPicPr>
        <p:blipFill>
          <a:blip r:embed="rId1"/>
          <a:stretch/>
        </p:blipFill>
        <p:spPr>
          <a:xfrm>
            <a:off x="0" y="174780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7821-705E-4A65-BE7C-26484FA8CE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395280" y="314172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уриновые осн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изводные пурина, входящие в соста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клеиновых кисло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денин и гуанин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гуанина характерно динамическое равновесие между структурными изомерами, обусловленное переносом подвижного атома водо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е нуклеозидов происходит, как и в случае пиримидинов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аний, по связи N–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395280" y="404640"/>
            <a:ext cx="8280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иримидиновые осн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ные пиримидина, входящ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став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уклеиновых кисло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урацил, тимин, цитоз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этих оснований, содержащих группу –ОН, характерно подвиж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весие структурных изомеров, обусловленное переносом протона от кислорода к азоту и наоборо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рац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ими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цитози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84E7E-0AC5-4D79-BEC4-771D7099F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1"/>
          <p:cNvSpPr/>
          <p:nvPr/>
        </p:nvSpPr>
        <p:spPr>
          <a:xfrm>
            <a:off x="395280" y="26028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тероциклические соедин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гетероциклы) —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органические соедин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держащие циклы, в состав которых наряду с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углерод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ходят и атомы других элементов. Могут рассматриваться как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карбоциклические соедин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 гетерозаместителями (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гетероатом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цикле. Наиболее разнообразны и хорошо изучены ароматические азотсодержащие гетероциклические соединения. Предельные случаи гетероциклических соединений — соединения, не содержащие атомов углерода в цикле, например, 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hlinkClick r:id="rId5"/>
              </a:rPr>
              <a:t>пентаз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9862-B6AA-4F40-AD03-DB60FF408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539640" y="404640"/>
            <a:ext cx="813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фи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Электрофи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гетероароматических соединений растёт при падении п-электронной плотности, то есть при увеличении числа гетероатомов и, при их равном числе, выше для шестичленных, по сравнению с пятичленными, гетероциклами. Так, для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пиррол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индолов реакции нуклеофильного замещения атипичны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пирид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 бензимидазол аминируются амидом натрия, а 1,3,5-триазин быстро гидролизуется до формиата аммония уже в водном раств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0BB60-6CA0-4031-9A28-2B0B756C8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395280" y="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менкл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химии гетероциклические соединения в силу исторических причин широко применяются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тривиальные наз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так, например, при именовании пяти- и шестичленных соединений, содержащих 1 или 2 гетероатома N, O или S в подавляющем большинстве случаев используются тривиальные наз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тическая номенклатура гетероциклических соединений строится по правилам, предложенным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Ганч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Видма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7A6E-E243-4AFE-8C0D-9691AEB3B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611280" y="620640"/>
            <a:ext cx="69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иологическое 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циклические соединения широко распространены в живой природе и играют важное значение в химии природных соединений и биохимии. Функции, выполняемые этими соединениями весьма широки — от структурообразующих полимеров (производные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целлюлоз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и других циклических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полисахарид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) до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коферментов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и 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алкалоид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EFEC-F2CF-4DE4-994F-0CF0D2EACB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611280" y="620640"/>
            <a:ext cx="73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ство и приме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гетероциклические соединения получают из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каменноугольной смол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пирид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хинол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акрид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пр.) и при переработке растительного сырья 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5"/>
              </a:rPr>
              <a:t>фурфуро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Многие природные и синтетические гетероциклические соединения — ценные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6"/>
              </a:rPr>
              <a:t>красите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7"/>
              </a:rPr>
              <a:t>индиг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лекарственные вещества (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8"/>
              </a:rPr>
              <a:t>хин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9"/>
              </a:rPr>
              <a:t>морф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0"/>
              </a:rPr>
              <a:t>акрих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1"/>
              </a:rPr>
              <a:t>пирамид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Гетероциклические соединения используют в производстве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2"/>
              </a:rPr>
              <a:t>пластма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ак ускорители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3"/>
              </a:rPr>
              <a:t>вулканиз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b8803"/>
                </a:solidFill>
                <a:uFillTx/>
                <a:latin typeface="Arial"/>
                <a:hlinkClick r:id="rId14"/>
              </a:rPr>
              <a:t>кауч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 кинофотопромышлен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7C33-CB7D-407E-BFBA-74ECE5A55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24000" y="544500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идин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 – шестичленный гетероцикл с одним атомом азот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есцветная жидкость с неприятным запахом, т.кип. 115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Хорошо растворяется в воде и органических жидкостях. Ядов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n342"/>
          <p:cNvPicPr/>
          <p:nvPr/>
        </p:nvPicPr>
        <p:blipFill>
          <a:blip r:embed="rId1"/>
          <a:srcRect l="0" t="0" r="75660" b="14416"/>
          <a:stretch/>
        </p:blipFill>
        <p:spPr>
          <a:xfrm>
            <a:off x="5796000" y="1341360"/>
            <a:ext cx="2879640" cy="3527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n341"/>
          <p:cNvPicPr/>
          <p:nvPr/>
        </p:nvPicPr>
        <p:blipFill>
          <a:blip r:embed="rId2"/>
          <a:srcRect l="20670" t="0" r="53157" b="14444"/>
          <a:stretch/>
        </p:blipFill>
        <p:spPr>
          <a:xfrm>
            <a:off x="611280" y="1428840"/>
            <a:ext cx="4105080" cy="3440160"/>
          </a:xfrm>
          <a:prstGeom prst="rect">
            <a:avLst/>
          </a:prstGeom>
          <a:ln w="0">
            <a:noFill/>
          </a:ln>
        </p:spPr>
      </p:pic>
      <p:sp>
        <p:nvSpPr>
          <p:cNvPr id="376" name="WordArt 5"/>
          <p:cNvSpPr txBox="1"/>
          <p:nvPr/>
        </p:nvSpPr>
        <p:spPr>
          <a:xfrm>
            <a:off x="3557520" y="404640"/>
            <a:ext cx="2028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ри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4EB8E-31D4-4A1D-B560-0277A6139B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n311"/>
          <p:cNvPicPr/>
          <p:nvPr/>
        </p:nvPicPr>
        <p:blipFill>
          <a:blip r:embed="rId1"/>
          <a:stretch/>
        </p:blipFill>
        <p:spPr>
          <a:xfrm>
            <a:off x="1403280" y="117360"/>
            <a:ext cx="6553440" cy="2664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7"/>
          <p:cNvSpPr/>
          <p:nvPr/>
        </p:nvSpPr>
        <p:spPr>
          <a:xfrm>
            <a:off x="468360" y="249228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24000" y="3141720"/>
            <a:ext cx="835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ое строение молекулы пиридина сходно со строением бенз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омы углерода и азота находятся в состояни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гибридиз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 C–C, C–H и C–N образованы гибридными орбитал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глы между ними составляют примерно 120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этому цикл име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ское стро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есть электронов, находящихся на негибридных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рбиталя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уют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электронную ароматическую систем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трех гибридных орбиталей атома азота две образуют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связи С–N, а третья содержит неподеленную пару электронов, которые не участвуют в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электронной сист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8459640" y="5950080"/>
            <a:ext cx="684360" cy="907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907920"/>
              <a:gd name="textAreaBottom" fmla="*/ 863640 h 907920"/>
            </a:gdLst>
            <a:ahLst/>
            <a:rect l="textAreaLeft" t="textAreaTop" r="textAreaRight" b="textAreaBottom"/>
            <a:pathLst>
              <a:path w="21600" h="28652">
                <a:moveTo>
                  <a:pt x="0" y="0"/>
                </a:moveTo>
                <a:lnTo>
                  <a:pt x="21600" y="0"/>
                </a:lnTo>
                <a:lnTo>
                  <a:pt x="21600" y="28652"/>
                </a:lnTo>
                <a:lnTo>
                  <a:pt x="0" y="28652"/>
                </a:lnTo>
                <a:close/>
              </a:path>
              <a:path fill="lightenLess" w="21600" h="28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52">
                <a:moveTo>
                  <a:pt x="21600" y="0"/>
                </a:moveTo>
                <a:lnTo>
                  <a:pt x="21600" y="28652"/>
                </a:lnTo>
                <a:lnTo>
                  <a:pt x="20200" y="27252"/>
                </a:lnTo>
                <a:lnTo>
                  <a:pt x="20200" y="1400"/>
                </a:lnTo>
                <a:close/>
              </a:path>
              <a:path fill="darkenLess" w="21600" h="28652">
                <a:moveTo>
                  <a:pt x="21600" y="28652"/>
                </a:moveTo>
                <a:lnTo>
                  <a:pt x="0" y="28652"/>
                </a:lnTo>
                <a:lnTo>
                  <a:pt x="1400" y="27252"/>
                </a:lnTo>
                <a:lnTo>
                  <a:pt x="20200" y="27252"/>
                </a:lnTo>
                <a:close/>
              </a:path>
              <a:path fill="lighten" w="21600" h="28652">
                <a:moveTo>
                  <a:pt x="0" y="28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52"/>
                </a:lnTo>
                <a:close/>
              </a:path>
              <a:path fill="darkenLess" w="21600" h="28652">
                <a:moveTo>
                  <a:pt x="5273" y="7511"/>
                </a:moveTo>
                <a:lnTo>
                  <a:pt x="12271" y="7511"/>
                </a:lnTo>
                <a:lnTo>
                  <a:pt x="16327" y="11010"/>
                </a:lnTo>
                <a:lnTo>
                  <a:pt x="16327" y="21141"/>
                </a:lnTo>
                <a:lnTo>
                  <a:pt x="5273" y="21141"/>
                </a:lnTo>
                <a:close/>
              </a:path>
              <a:path fill="darken" w="21600" h="28652">
                <a:moveTo>
                  <a:pt x="12271" y="7511"/>
                </a:moveTo>
                <a:lnTo>
                  <a:pt x="16327" y="11010"/>
                </a:lnTo>
                <a:lnTo>
                  <a:pt x="12271" y="11010"/>
                </a:lnTo>
                <a:close/>
              </a:path>
            </a:pathLst>
          </a:cu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F7D9E-E773-4A50-B6B4-EF07F8261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46836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этому пиридин, подобно аминам, проявляе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войства осн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ный раствор пиридина окрашивает лакмус в синий цве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взаимодействии пиридина с сильными кислотами образуются соли пириди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5" descr="n312"/>
          <p:cNvPicPr/>
          <p:nvPr/>
        </p:nvPicPr>
        <p:blipFill>
          <a:blip r:embed="rId1"/>
          <a:stretch/>
        </p:blipFill>
        <p:spPr>
          <a:xfrm>
            <a:off x="755640" y="1614600"/>
            <a:ext cx="7632720" cy="253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n313"/>
          <p:cNvPicPr/>
          <p:nvPr/>
        </p:nvPicPr>
        <p:blipFill>
          <a:blip r:embed="rId2"/>
          <a:stretch/>
        </p:blipFill>
        <p:spPr>
          <a:xfrm>
            <a:off x="395280" y="4581360"/>
            <a:ext cx="8172360" cy="21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381E-8DE3-4ED5-ADFE-FE599A891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n315"/>
          <p:cNvPicPr/>
          <p:nvPr/>
        </p:nvPicPr>
        <p:blipFill>
          <a:blip r:embed="rId1"/>
          <a:stretch/>
        </p:blipFill>
        <p:spPr>
          <a:xfrm>
            <a:off x="216000" y="3203640"/>
            <a:ext cx="8820000" cy="26017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250920" y="189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яду с основными свойствами пиридин проявляет свой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роматического 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Однако его активность в реакц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фильного замещени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иже, чем у бензо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 бензол, пиридин может присоединять водород в присутств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ализатора с образованием насыщенного соединени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ипериди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                  Пиперидин проявляет свойства вторичного амина (сильное основ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E78C-C5CD-4A66-B32B-0E9BA3C66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1:24:28Z</dcterms:created>
  <dc:creator>Ширшина Н.В.</dc:creator>
  <dc:description/>
  <dc:language>en-US</dc:language>
  <cp:lastModifiedBy>Student</cp:lastModifiedBy>
  <dcterms:modified xsi:type="dcterms:W3CDTF">2013-05-03T09:37:01Z</dcterms:modified>
  <cp:revision>9</cp:revision>
  <dc:subject/>
  <dc:title>Слайд 1</dc:title>
</cp:coreProperties>
</file>